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50B-4CCA-4F34-BE64-88216EC6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04D-D3AB-45FC-8DA7-C6A2ADFD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BE8-EA68-4221-90A5-BDF42123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B14-86D8-4ACD-AB9D-788D460C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2933-F6BD-4CC0-B5A1-2B857A77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2BDA-8DFF-4EC8-B2BF-CC48E509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837-2A31-47A8-88EE-06E8ACBE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CB5A-4CBE-493F-A1CE-F34E18C0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4004-A152-4EA0-B3A6-D5E142D7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ADAC-774D-4B67-96C3-46EFF967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745B-E8DD-4EB5-8510-E0B3D6A0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C47-462C-46E5-8377-5F9001D9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E3DF-C797-4294-8233-99A2C08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9398-6708-44DF-8537-DE0C97B5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9996-BA07-4899-A789-1CBCA037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0123-C39A-4D95-B03A-01CCFE45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3E51-C6C4-4BBD-8B0B-1792BA7F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FFF-FB6A-43D7-80DA-3C4B905A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08A-9189-40F7-9F6E-F57BD3E2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405-A0A3-45CF-BE41-6FCD41A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2E2-60D3-4C4B-89F3-2DE8C6AF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051-74DE-452B-87E5-0F9B4314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C25-222E-4179-8C6D-8E9FE1E0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989-40DF-41B0-8506-80086A3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770D-FDEC-4462-B808-14CF7ACB30E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1264-DD5F-46A0-9BE2-A6ED9BA3C91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iki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9676d"/>
                </a:solidFill>
                <a:latin typeface="Palatino Linotype"/>
              </a:rPr>
              <a:t>Wikis</a:t>
            </a:r>
            <a:endParaRPr b="0" lang="en-US" sz="80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7280" y="2707920"/>
            <a:ext cx="640080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entury Gothic"/>
              </a:rPr>
              <a:t>Collaborative Writing Platform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Palatino Linotype"/>
              </a:rPr>
              <a:t>Wiki – the origin of the name</a:t>
            </a:r>
            <a:endParaRPr b="0" lang="en-US" sz="4000" spc="-1" strike="noStrike">
              <a:solidFill>
                <a:srgbClr val="69676d"/>
              </a:solidFill>
              <a:latin typeface="Palatino Linotype"/>
            </a:endParaRPr>
          </a:p>
        </p:txBody>
      </p:sp>
      <p:pic>
        <p:nvPicPr>
          <p:cNvPr id="93" name="Content Placeholder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43120" y="1755720"/>
            <a:ext cx="5364000" cy="8016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About Wikis</a:t>
            </a:r>
            <a:r>
              <a:rPr b="0" lang="en-US" sz="5400" spc="-1" strike="noStrike">
                <a:solidFill>
                  <a:srgbClr val="ff0000"/>
                </a:solidFill>
                <a:latin typeface="Palatino Linotype"/>
              </a:rPr>
              <a:t>*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ikis are collaborative writing are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All who have “permission” can read and edit the conten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You can see a history of changes and even who made what chang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You do not need to know html code to write wik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iki text editor is just like Word and easy to us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iki content is created by web users -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 careful what you write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* By courtesy of the British Council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258920" y="234936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ikis in Plain English – Lee Lefevr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Make-A-Wiki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pic>
        <p:nvPicPr>
          <p:cNvPr id="99" name="Content Placeholder 3" descr=""/>
          <p:cNvPicPr/>
          <p:nvPr/>
        </p:nvPicPr>
        <p:blipFill>
          <a:blip r:embed="rId1"/>
          <a:stretch/>
        </p:blipFill>
        <p:spPr>
          <a:xfrm>
            <a:off x="457200" y="1825560"/>
            <a:ext cx="822960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Where can we wiki?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ikispac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etpaint wik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bwork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1:19:42Z</dcterms:created>
  <dc:creator>moe</dc:creator>
  <dc:description/>
  <dc:language>en-US</dc:language>
  <cp:lastModifiedBy>moe</cp:lastModifiedBy>
  <dcterms:modified xsi:type="dcterms:W3CDTF">2012-01-27T13:27:16Z</dcterms:modified>
  <cp:revision>8</cp:revision>
  <dc:subject/>
  <dc:title>Wikis</dc:title>
</cp:coreProperties>
</file>